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BE0-4845-4EB0-ABB0-5F30E322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7012-E4AA-43DA-AADA-0AE6B84C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0875D-4AED-4A09-A604-C67AC617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03FBD-B766-413C-B8AC-579B501F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46114-4BD6-4048-BAB2-3FD3E544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92C06-0E9B-432C-8B0E-93C1D8F9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D291E-1815-459A-B19A-107FC3A5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4DAFC-8C1F-4010-B254-715FD8D0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48720-C377-42FF-81E2-AC1E1A30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EC184-10C4-44EB-87C8-0E889D0B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81316-7B73-41C5-99F6-479645FF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0FF9DE-82A9-4139-8E3B-B55D57CC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651-94E1-4ABC-8992-3D3B1D8C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9033AD-2FED-4EA7-A1F8-52D7C2E1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EAABD4-8C4C-4981-9CD8-F563CBE0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992AE6-AF47-4288-A906-D19DD4F5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D3113A-ED16-4873-861C-E621D0CB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81A558-4A25-497B-9AC1-4503D624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1162A5-7B29-494B-9F60-E40B0336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CDA097-A361-4142-BECE-FEE39859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0B5C55-A87F-4EB7-BDD1-5AFD7208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2453B6-519F-4046-A9B1-DDEFCBD0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CCAFC0-252F-4767-8476-7FBC7D2B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5CD-A54C-4CBA-B82D-FE908297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AB28C3-8139-40CC-A383-949AAC02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09B89E-E7FC-4076-B3EE-54621886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62B7BE-1E9E-4B40-943D-F0E3EC07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AF1789-F8AA-4A73-893F-7036220B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FFEA2E-6DE3-442D-80F2-5D56C457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D1AA47-CC0B-4334-B396-DD005EDE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B22751-BB44-4366-A7F1-A7097820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2494E7-C0EB-42A1-A3B2-3AD958F7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5EF68B-BAD9-4D49-9D60-587277E7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6232F0-DFCC-497A-BCC1-B4A82F40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535D-FE34-4D52-86EC-86F5315A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1364AA-5FB6-4DE7-BC4C-9A7DA5FA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80E06E-6AFC-4AD6-AB0E-363BAA96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3AC15B-340B-4F9F-B607-9C638B42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9500-6A53-4EBE-B20B-E8802258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5FDC-8352-40F9-AA56-FB1F62BD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06AD-9AF5-4C53-9CBC-8C7A18D9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7D11-7DBA-4A84-9F82-25967188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B749-8C4D-454F-8E70-997268EE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D44B-05E5-4287-9E7E-5AE825C5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DDC-53E1-4F9D-86C9-F10FC53B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E511-7699-44E2-8460-1DA1AE8E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F185-84B7-4684-8955-BE265534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6A20-95D0-408D-A74F-73406BF8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6DBF-8093-48AE-91CA-87949CCB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0FB2-6C83-4F84-80A8-82A1DF2C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49152-CDFE-47B2-BFB7-8FCDE307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38715-5955-44EA-A9EE-232F545D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52317-92BE-4302-9893-882C4B29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EBE55-BBD6-4ABD-8A0E-227AF45E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AC476-9514-4CCD-BFF3-3B3A9525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DF11-F43C-4149-9DEC-0558FB12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4D00A-27EC-4F13-8A0C-6B749FED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C03D1-9B10-4EF2-836B-7F1444B5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67635-9CD0-48F1-A682-47D9CB3D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9F7FE-B3E3-4ECC-8CA2-BF1F6D6B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4EEF8-B747-472E-BD32-B5A3D0A5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289AF-9652-4CFC-8E8E-0C0B32C0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1D4F8-CFF0-4FEA-86E0-44219561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A8AFB6-D267-49CB-B18C-8C976528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8E3FB9-A5DD-4C9B-9D82-3A2313AF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C9A4C1-93E5-4F5A-9416-299C4A0B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96D-4B36-4F88-AF50-81BE71FB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9560A5-7B9B-4EE7-8C87-E01A3A6C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95255A-CFEB-4130-8768-FF2552A2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4EDABF-8F30-40BC-9F8D-3BF4B508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0EA42B-06B2-4AC3-844F-6609A11B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34CCD1-7B7B-4776-A283-E403A425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F1AD0C-0FBE-420E-9790-7E4CAD25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2C0618-537F-4435-B750-059D36C0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71A472-C0DF-4D42-8801-153E4096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E2CAB0-1E3E-47A6-9A35-A78DECCC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0FCC8-7C7A-4BD2-BFD2-FE3CAA02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32EE-881B-49F8-A6DA-B61C1BE9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90006-310B-420A-8FE9-77E4104A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D8565-44B5-4700-A3B4-53989C74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74D5A-AACE-4446-BB99-08029CB3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72674-7921-42E7-B935-0331AA75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CD954-D1FB-4169-8A31-31C432D7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699E9-4112-4189-9ED0-8C08BB2C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F81CA-41D6-47E0-9931-34F122B5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11A34-9C2F-4F9F-8365-7EE75DE6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F7FD8-5309-4CD8-BFFB-86215AB7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A9400-7999-40B5-86F8-BB295D25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3216-0E4A-4A8F-90BE-E7160904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67073-8D04-434E-A831-87BEB4CE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6A7C05-FA44-4C1C-B9C2-093FE0CE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7C78E-5D2E-4208-B0C3-ADBBACF8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737EA4-0972-45A9-8229-8AA542EF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F31279-37EA-43A5-8DC7-00A8C534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302515-AE1D-4FA3-98C8-4D433870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A9A815-B1A9-4974-B275-0BE37E37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9D8B25-12CC-4AF0-97CB-DB25726C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F80AB3-2786-4BA4-A953-58901862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2C4715-CD20-411E-B571-F4D76560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F27-48D9-46C4-AEF6-BFB6ADC3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6966DB-7602-436F-96C4-D8ECCE87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9C4E0F-27C4-4C70-A950-2E065ACC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7D03FB-32C3-4310-850A-F9A3671F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B3C1A-B848-4DC7-B856-A73805E5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B7958-1346-44CC-9009-F4F3AF3F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0DA95-45B0-40D2-BF78-5C954CA2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3E90E-68B4-4922-A6A0-287E720E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90D2E-4619-4797-9617-23595E2B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71CEE-8EB6-4643-8407-AEEF4C7F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21B64-FB64-4CAF-8F03-81486C8D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98D5-2480-4353-B90B-D45B2928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44DBB-9B46-4D6B-97AB-E3BF99AE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40954-0C12-4547-BEE4-712F112E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9ECBF-E597-4AF3-A9FF-CE17221C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27E04-9525-4310-8A12-752ECC60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22E51-9BC4-46FE-974C-76389289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69218-D426-4569-B5A1-0B236E50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C4D98-81CD-4C1C-99F9-81F65555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19558-AC89-4F64-B86D-89D39974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E47A3-3348-4A31-8145-F1722982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621CD-D2B2-4763-920C-0742D98F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A08-B5CE-416E-871E-CEBB4D2E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2442E-6966-4A98-BAA1-5AF844F6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FE99C-3ECA-4555-9B32-DE497FB9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259CD-37D1-427A-9BB7-D2F48F44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D5914-8298-4776-A329-A52F93EC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CCA96-CDE6-4DB9-AA75-A1AED562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6B5B1-C850-444E-8E66-713E590F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C11A3-9551-4AD5-891C-C85307C5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4765A-50FB-47D3-AA9A-459AEEC4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882F9-B7BE-44B3-A2D2-86C54D16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231FE-12E1-4920-A960-72A7E5D0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61AE-7B7D-4CB2-BA27-81C504823A0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sldNum" idx="29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CC29-DDA5-404B-83C2-443542FAAE4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ftr" idx="30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32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E872-4E17-433D-8934-846A2EC0767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ftr" idx="33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65BA-3D7A-4BBB-9FE9-8B16C247D30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90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75EB-F8A6-4B44-93E7-559A11ACD3E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13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1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AC16-3990-4FB6-9CF8-73D0E4894A4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2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F403-1F1D-4783-917F-3349BC129FB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7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DF0B-30CB-45DD-BBE9-5408C965D82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8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E23D-31DA-438B-95B6-D08E9E157B5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D1EC-3648-4E6E-8827-170D8666976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5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6E10-34E5-4CBB-9AD9-2DDE01FFE38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826920" y="692280"/>
            <a:ext cx="7775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ужество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то это такое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611280" y="3429000"/>
            <a:ext cx="763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ль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ать определение понятию «мужество»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ывать патриотизм, любовь к Родине и людям ее охраняющим не только в военное, но и мирное врем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16"/>
          <p:cNvPicPr/>
          <p:nvPr/>
        </p:nvPicPr>
        <p:blipFill>
          <a:blip r:embed="rId1"/>
          <a:stretch/>
        </p:blipFill>
        <p:spPr>
          <a:xfrm>
            <a:off x="108000" y="765000"/>
            <a:ext cx="3889440" cy="2918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5" descr="17"/>
          <p:cNvPicPr/>
          <p:nvPr/>
        </p:nvPicPr>
        <p:blipFill>
          <a:blip r:embed="rId2"/>
          <a:stretch/>
        </p:blipFill>
        <p:spPr>
          <a:xfrm>
            <a:off x="4140360" y="3068640"/>
            <a:ext cx="46083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4"/>
          <p:cNvSpPr/>
          <p:nvPr/>
        </p:nvSpPr>
        <p:spPr>
          <a:xfrm>
            <a:off x="395280" y="10746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дведем итог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1332000" y="1773360"/>
            <a:ext cx="720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лавный герой русских былин -Богатыр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ые известные имена былинных богатырей - Илья Муромец, Алеша Попович, Добрыня Никити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аринное название русского войска – рат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лавное сражение Отечественной войны 1812 года - Бородинское сраж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ая великая из войн – Великая Отечествен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ая доблестная армия - Россий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он о праздновании Дня Защитника Отечества был принят в1995 го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ые мужественные люди – РУССК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4"/>
          <p:cNvSpPr/>
          <p:nvPr/>
        </p:nvSpPr>
        <p:spPr>
          <a:xfrm>
            <a:off x="3062880" y="691560"/>
            <a:ext cx="38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что такое мужество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324000" y="2060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Это храбрость, присутствие духа в опасности. (Толковый словарь Русского языка С.И. Ожегов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468360" y="357336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рабрость – мужество и решительность в поступках, отсутствие страза пред опаснлст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1332000" y="333360"/>
            <a:ext cx="63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ужество в наше время, в мирное время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3" name="Picture 5" descr="Забег мужество"/>
          <p:cNvPicPr/>
          <p:nvPr/>
        </p:nvPicPr>
        <p:blipFill>
          <a:blip r:embed="rId1"/>
          <a:stretch/>
        </p:blipFill>
        <p:spPr>
          <a:xfrm>
            <a:off x="755640" y="2637000"/>
            <a:ext cx="2400480" cy="352728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6"/>
          <p:cNvSpPr/>
          <p:nvPr/>
        </p:nvSpPr>
        <p:spPr>
          <a:xfrm>
            <a:off x="755640" y="6093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мороз пробежать 30 км…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Picture 7" descr="мужество беженцев"/>
          <p:cNvPicPr/>
          <p:nvPr/>
        </p:nvPicPr>
        <p:blipFill>
          <a:blip r:embed="rId2"/>
          <a:stretch/>
        </p:blipFill>
        <p:spPr>
          <a:xfrm>
            <a:off x="4716360" y="3573360"/>
            <a:ext cx="3506760" cy="233856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8"/>
          <p:cNvSpPr/>
          <p:nvPr/>
        </p:nvSpPr>
        <p:spPr>
          <a:xfrm>
            <a:off x="4716360" y="6021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быть беженцем… бороться за свое счастье и право на жизн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808200" y="1866960"/>
            <a:ext cx="74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о быть мужественным, чтобы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при тушении пожаров"/>
          <p:cNvPicPr/>
          <p:nvPr/>
        </p:nvPicPr>
        <p:blipFill>
          <a:blip r:embed="rId1"/>
          <a:stretch/>
        </p:blipFill>
        <p:spPr>
          <a:xfrm>
            <a:off x="250920" y="333360"/>
            <a:ext cx="4465440" cy="33559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42"/>
          <p:cNvPicPr/>
          <p:nvPr/>
        </p:nvPicPr>
        <p:blipFill>
          <a:blip r:embed="rId2"/>
          <a:stretch/>
        </p:blipFill>
        <p:spPr>
          <a:xfrm>
            <a:off x="5087880" y="2421000"/>
            <a:ext cx="3667320" cy="429264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7"/>
          <p:cNvSpPr/>
          <p:nvPr/>
        </p:nvSpPr>
        <p:spPr>
          <a:xfrm>
            <a:off x="395280" y="4221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асать люде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5435640" y="148428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первые добиваться успе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715644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5"/>
          <p:cNvSpPr/>
          <p:nvPr/>
        </p:nvSpPr>
        <p:spPr>
          <a:xfrm>
            <a:off x="179280" y="981000"/>
            <a:ext cx="896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</a:rPr>
              <a:t>Много разных дел и поступков можно назвать мужественными!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1979640" y="1916280"/>
            <a:ext cx="525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ы знаем, что ныне лежит на весах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что совершается нын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ас мужества пробил на наших часах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мужество нас не покинет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4" descr="5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4"/>
          <p:cNvSpPr/>
          <p:nvPr/>
        </p:nvSpPr>
        <p:spPr>
          <a:xfrm>
            <a:off x="536760" y="596880"/>
            <a:ext cx="855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е может родная земля! Может накормить теплым и вкусным хлебом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поить родниковой водой, восхитить своей красотой. И только защитит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ма себя она не может… Поэтому защита Отечества и родной земли – дол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х, кто ест ее хлеб, пьет ее воду, любуется ее красот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протяжении многих веков не раз приходилось русским людям отстаива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ободу и независимость своей Роди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814680" y="2708280"/>
            <a:ext cx="799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род помнит своих легендарных героев-стражей: Илью Муромц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брыню Никитича, Алешу Попович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395280" y="3692520"/>
            <a:ext cx="10974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веках осталась и по сей день живет добрая память о русском воин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к о самом мужественном бесстрашном, честном, преданном Отечеству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верном в дружбе. О русском князе Игоре Святославовиче и храбр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инов его дружины сохранено  и рассказано в русском эпосе “Слово 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лку Игореве”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684360" y="537372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вновь в 1830 году войско великого князя Дмитрия Донского разбило татаро-монгольские полчища на Куликовом пол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3"/>
          <p:cNvPicPr/>
          <p:nvPr/>
        </p:nvPicPr>
        <p:blipFill>
          <a:blip r:embed="rId1"/>
          <a:stretch/>
        </p:blipFill>
        <p:spPr>
          <a:xfrm>
            <a:off x="755640" y="476280"/>
            <a:ext cx="8028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7"/>
          <p:cNvPicPr/>
          <p:nvPr/>
        </p:nvPicPr>
        <p:blipFill>
          <a:blip r:embed="rId1"/>
          <a:stretch/>
        </p:blipFill>
        <p:spPr>
          <a:xfrm>
            <a:off x="468360" y="128520"/>
            <a:ext cx="842472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7" descr="11"/>
          <p:cNvPicPr/>
          <p:nvPr/>
        </p:nvPicPr>
        <p:blipFill>
          <a:blip r:embed="rId1"/>
          <a:stretch/>
        </p:blipFill>
        <p:spPr>
          <a:xfrm>
            <a:off x="900000" y="2276640"/>
            <a:ext cx="6836040" cy="437508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4"/>
          <p:cNvSpPr/>
          <p:nvPr/>
        </p:nvSpPr>
        <p:spPr>
          <a:xfrm>
            <a:off x="395280" y="54936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 подвиге солдат и русского дворянства во время Отечественной войны 1812 года рассказал великий русский писатель Лев Толстой в романе “Война и мир”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468360" y="1773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 не долго отдыхали от ратных дел русские солдат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971640" y="2421000"/>
            <a:ext cx="52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Сорок первый! Июнь.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Год и месяц борьбы всенародной.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Даже пылью времен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Затянуть эту дату нельзя.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Поднималсь страна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И на фронт уходила поротно,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Кумачевые звезды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На полотнах знамен уно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4" descr="13"/>
          <p:cNvPicPr/>
          <p:nvPr/>
        </p:nvPicPr>
        <p:blipFill>
          <a:blip r:embed="rId1"/>
          <a:stretch/>
        </p:blipFill>
        <p:spPr>
          <a:xfrm>
            <a:off x="395280" y="476280"/>
            <a:ext cx="4321080" cy="26748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14"/>
          <p:cNvPicPr/>
          <p:nvPr/>
        </p:nvPicPr>
        <p:blipFill>
          <a:blip r:embed="rId2"/>
          <a:stretch/>
        </p:blipFill>
        <p:spPr>
          <a:xfrm>
            <a:off x="4859280" y="3284640"/>
            <a:ext cx="4103640" cy="30636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15"/>
          <p:cNvPicPr/>
          <p:nvPr/>
        </p:nvPicPr>
        <p:blipFill>
          <a:blip r:embed="rId3"/>
          <a:stretch/>
        </p:blipFill>
        <p:spPr>
          <a:xfrm>
            <a:off x="324000" y="3357720"/>
            <a:ext cx="4392360" cy="28112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7" descr="9"/>
          <p:cNvPicPr/>
          <p:nvPr/>
        </p:nvPicPr>
        <p:blipFill>
          <a:blip r:embed="rId4"/>
          <a:stretch/>
        </p:blipFill>
        <p:spPr>
          <a:xfrm>
            <a:off x="4788000" y="476280"/>
            <a:ext cx="4356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6" descr="Br_047"/>
          <p:cNvPicPr/>
          <p:nvPr/>
        </p:nvPicPr>
        <p:blipFill>
          <a:blip r:embed="rId1"/>
          <a:stretch/>
        </p:blipFill>
        <p:spPr>
          <a:xfrm>
            <a:off x="1908000" y="-414360"/>
            <a:ext cx="5180040" cy="727236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4"/>
          <p:cNvSpPr/>
          <p:nvPr/>
        </p:nvSpPr>
        <p:spPr>
          <a:xfrm>
            <a:off x="684360" y="333360"/>
            <a:ext cx="7559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27 000 000 -  погибших на две с половиной тысячи километр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это 10 800 убитых на километр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22 человека на каждые два метра зем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17 000 000 погибших за 14018  дн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это 19 000 ежедневно, 800 человек в час, 30  человек каждую минуту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27 000 000 погибших в соотношении ко всему населению тех лет. Это значит: каждый шестой житель нашей страны погиб во время вой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олдаты сражались во имя мира и мечтали о будущем в передышках между боями, в тесных землянках и холодных окопах. Они верили, что мир, спасенный от фашизма, будет прекрасен. И эта вера давала им сил, давала веру, надежду. Делала их мужественне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900000" y="5300640"/>
            <a:ext cx="71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Закончилась Великая Отечественная война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Но войны не закончилис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4"/>
          <p:cNvSpPr/>
          <p:nvPr/>
        </p:nvSpPr>
        <p:spPr>
          <a:xfrm>
            <a:off x="539640" y="476280"/>
            <a:ext cx="835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сять страшных лет продолжалась война в Афганистане. Официально это называлось “выполнение интернационального долга”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 мы знаем, сколько наших ребят полегло на афганской земле. Они свой долг выполнили с честью, а вот выполнили ли долг перед ними те, кто посылал их на эту войну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ончилась война в Афганистане, но вновь не спят матери, провожая своих сыновей на службу в армию. Все новые и новые “горячие точки” вспыхивают на карте нашей страны, и среди них ставшее для многих страшным слово “Чечня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ссийские солдаты, вернувшиеся с чеченской войны, принесли с собой как бы обновленную любовь к Родине. Они в какой-то мере вернули нам высокое понятие патриотизма, мужества, воинского долг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7:29:57Z</dcterms:created>
  <dc:creator>SeryjVolhv</dc:creator>
  <dc:description/>
  <dc:language>en-US</dc:language>
  <cp:lastModifiedBy>Алия</cp:lastModifiedBy>
  <dcterms:modified xsi:type="dcterms:W3CDTF">2020-03-31T17:34:39Z</dcterms:modified>
  <cp:revision>9</cp:revision>
  <dc:subject/>
  <dc:title>Слайд 1</dc:title>
</cp:coreProperties>
</file>